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7.png" ContentType="image/png"/>
  <Override PartName="/ppt/media/image14.gif" ContentType="image/gif"/>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D70B4-5396-4DD5-B30B-ECFD4AB9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EA787-B8D9-40B6-B30B-530A83793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97471-B2E9-4D4E-BC3D-4DC980A3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11B2C-2634-4AB2-B080-DAB4BA6E2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334E4-7D1A-4E9F-B34C-F48BB0F74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F0CF-3F5F-499F-BD95-E8A26036C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C1455-FAEC-48FC-BE19-CBBB4CB99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7C6AC-EA3E-404C-BA7A-6EFFC226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3704D-B8BE-43A2-9CB9-C4BE3DB6F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A09B2-72A7-4258-A352-D4362BCE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E5EA-6FBB-400B-A0EE-664277D58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8704-06CA-491C-89B8-0007AD85B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D8ADF-9389-4BFC-8454-4A6E10A79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4FE51-C12E-4FDF-A7CF-7721F2DEA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2523D-8E63-4DBA-AB7E-F89EAFF1F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13BAB-8AF0-4EB9-84D2-E7689F65C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A9B81-CE94-4020-BC7A-5F7500B81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1E189-EE69-4C91-9108-0A524CB355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B4C73-FF18-4C0A-A1BC-3532E5E10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728A8-ADEF-4510-8985-A8220DFD2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C87E3-DF66-433E-B540-FC452FAFE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AB578-7E87-44EA-B99D-33194CCB4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A26C-E4E7-4F13-B96A-3DEC07F31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F06B62-7A5F-4254-8635-337517CF8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6B66E-3E2C-4E8E-9256-A39B22B54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53E80-C260-425A-8F49-EA51EE31A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69A71-2865-4255-B61A-290F050DF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A0847-508E-420D-BA15-89F3B5234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57302B-C691-4C65-AABF-AFBAE3CFA5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A8070-89AB-47E4-865A-E1EC58CA0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6228CE-5DAD-4610-9336-6ED36FAE8A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2952A-E897-4DCB-9B51-5A2CA5FC3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2055F-CCE9-4CA8-9E7E-8F6AD1062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2166-D3A5-4DA3-8201-550D4998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6E83B-878C-48FA-A0B5-5418789CAA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B5E15-A61D-4743-96CF-80E982E12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7FB2ED-6B70-4994-8751-AF0824332A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10FBB-B485-4652-9189-4A142720B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829AE-1B4D-499C-B792-309FF75CD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2430C-343A-4E35-A3A4-694F5923A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4A561-D7C4-48CC-9AC9-DB3A52D6E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4B4002-7190-4311-87C9-BCF3708C8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911FF6-29E2-4B94-85EF-6079CED0B2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E02F3C-3286-42DE-94B6-172D9F827E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B4CA-BFEE-43A8-AB3D-BDB50401D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A80CDE-812D-4AF5-9C22-036278D62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7E856-7BE0-463A-9DC3-242922DEA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DA3322-49EF-4FF4-B0B4-3010E3072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8CA44-4AFC-4751-B831-03BC0CD0B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6307A-33F9-4166-A773-B9EB11687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A198A-E661-4781-965B-A1577B1FD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4B9D9-7F40-4132-BFB7-7B899A665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6E92E-E487-4BFA-A293-EB6E4A73B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61FF5C-7400-4513-B2D1-8A409DD4F7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7DE010-6891-4151-BA75-F176D0A626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0247-6371-4B00-8F69-77943575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C61D4B-DCAA-4E14-B529-58243EB432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BB5A37-E475-48A0-9005-8EA0BC208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559F9-5517-4C15-B327-F534741B0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C1CFBB-2F35-4144-A18E-090CC5848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0A7BE-BFE6-4623-A179-1D3BB1C68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B83B1-0474-4AD0-95EE-0960BE9DD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1C05C-1D16-4EEF-8802-EEE0CD4C1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553D8-A653-4317-98E6-67645B4C7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71F3F-FC33-4536-8037-789DB1DB1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6D0E2-283C-48CA-B70C-8F36E7C36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BE45-648A-48DA-9BF7-775193DF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9CE92-62E0-4A1F-B291-E1A8032BD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66121E-F76C-4D75-8797-856E2C0CA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81CA5A-38A3-4656-9FD3-0F38035DE2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ECED3-8F67-4C94-827F-9A85B5309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C4C01F-245B-4386-92C6-FDA34ABCE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D8112-E334-4E21-9517-EC81C86EF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9AA8A-5F72-4E9F-BD72-7429BADED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59466F-C82B-4F65-9EDD-5C4820468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34F66-B180-4FF9-9BCC-5F271DDE8E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52F0F-8C0E-4B42-BB61-135AEE8CC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327A-F403-4165-9D90-CC3B1C52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2D7FA-4A85-4271-9982-B6AF12E90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744D2-42A3-4A12-B5FE-55E448302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462BB8-9565-4771-9B98-780188A4C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92765D-E511-462A-BBED-8804E95CA7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C6914-AEC1-4D91-81C8-7C09D14343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C219-0B6E-45E2-AD0F-8F361D0B2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088E5-1FC4-44B2-9FD7-6FC1CE132CA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5527D-49DC-4FC6-ADE5-FCD79C2826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5" name="Oval 12"/>
          <p:cNvGrpSpPr/>
          <p:nvPr/>
        </p:nvGrpSpPr>
        <p:grpSpPr>
          <a:xfrm>
            <a:off x="914400" y="1401840"/>
            <a:ext cx="225360" cy="231840"/>
            <a:chOff x="914400" y="1401840"/>
            <a:chExt cx="225360" cy="231840"/>
          </a:xfrm>
        </p:grpSpPr>
        <p:pic>
          <p:nvPicPr>
            <p:cNvPr id="56" name="Oval 12" descr=""/>
            <p:cNvPicPr/>
            <p:nvPr/>
          </p:nvPicPr>
          <p:blipFill>
            <a:blip r:embed="rId4"/>
            <a:stretch/>
          </p:blipFill>
          <p:spPr>
            <a:xfrm>
              <a:off x="914400" y="1401840"/>
              <a:ext cx="225360" cy="23184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EC6D6-AA7A-419B-922F-5904A68CC18C}"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3F816-153E-4C43-9FD3-8016F1C708B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Oval 15"/>
          <p:cNvGrpSpPr/>
          <p:nvPr/>
        </p:nvGrpSpPr>
        <p:grpSpPr>
          <a:xfrm>
            <a:off x="2163600" y="2803680"/>
            <a:ext cx="225720" cy="231480"/>
            <a:chOff x="2163600" y="2803680"/>
            <a:chExt cx="225720" cy="231480"/>
          </a:xfrm>
        </p:grpSpPr>
        <p:pic>
          <p:nvPicPr>
            <p:cNvPr id="103" name="Oval 15" descr=""/>
            <p:cNvPicPr/>
            <p:nvPr/>
          </p:nvPicPr>
          <p:blipFill>
            <a:blip r:embed="rId3"/>
            <a:stretch/>
          </p:blipFill>
          <p:spPr>
            <a:xfrm>
              <a:off x="2163600" y="2803680"/>
              <a:ext cx="225720" cy="23148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1BABF-98BC-49A6-AB90-82ACB098A4FE}"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AE349-89F6-4592-B3C9-241D8DACAD0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1D9BF-5254-4351-8F21-DAFF1DB813A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176B3-36C8-4C48-84BD-039EB436FA4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F5EA8-5C67-4101-9C01-FFF348C49245}"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4E992-EAD5-4ECE-82C8-640879268BA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B133F-E683-4589-9A6D-41EAAFA4C17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3EBDD-99A5-4943-9282-7A4ECFAEE61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797360" cy="4797720"/>
            <a:chOff x="646200" y="969840"/>
            <a:chExt cx="4797360" cy="4797720"/>
          </a:xfrm>
        </p:grpSpPr>
        <p:pic>
          <p:nvPicPr>
            <p:cNvPr id="273" name="Rectangle 12" descr=""/>
            <p:cNvPicPr/>
            <p:nvPr/>
          </p:nvPicPr>
          <p:blipFill>
            <a:blip r:embed="rId3"/>
            <a:stretch/>
          </p:blipFill>
          <p:spPr>
            <a:xfrm>
              <a:off x="646200" y="969840"/>
              <a:ext cx="4797360" cy="479772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9F892-864E-4489-806E-AC105FB3B17B}"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A9861-4116-476B-83FE-42B098BE06D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2"/>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2"/>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2"/>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2"/>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3"/>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2"/>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2"/>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Macintosh HD:Users:rebeccalostracco:Movies:Protein synthesis video.mp4" descr="Macintosh HD:Users:rebeccalostracco:Movies:Protein synthesis video.mp4"/>
          <p:cNvPicPr/>
          <p:nvPr/>
        </p:nvPicPr>
        <p:blipFill>
          <a:blip r:embed="rId2"/>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fill="hold">
                      <p:stCondLst>
                        <p:cond evt="onClick">
                          <p:tgtEl>
                            <p:spTgt spid="33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2"/>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2"/>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2"/>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ebecca Lostracco</cp:lastModifiedBy>
  <dcterms:modified xsi:type="dcterms:W3CDTF">2011-07-13T10:58:35Z</dcterms:modified>
  <cp:revision>38</cp:revision>
  <dc:subject/>
  <dc:title>Teaching the Concept of Protein Synthesis Rebecca Lostracco Jacqueline McCann</dc:title>
</cp:coreProperties>
</file>